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C72C-262B-4403-B613-1B0209200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0FAC-F118-4544-9015-B18572668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1C11-1CC8-46F5-AA37-6CB23D31B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867E-2A5F-4F5C-A128-AD90E1375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8EEC3-BC8F-4730-9497-483FDE9AA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44DD5-FD4C-40D9-ABAC-F70237D27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99C83-6797-43EA-B32F-991C75364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63B5F-1DEE-4613-B748-C47B4498D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144C9-51A9-4C61-A34B-8DD5799BB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B5351-8037-4A8E-9632-FB0538F7F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AFAB7-1CED-4D69-9374-A15F90B4B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2326-78B7-49B6-A525-7775FCE8E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2974E-65A7-4C9E-BF55-DDDACD086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0B853-37C1-4F7C-A791-1999AEB3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A2568-9DC3-44EA-B981-6952C9563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82CF7-FE69-48D0-B3D6-5650FB777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FFF90-002D-43E8-8A39-3AEA29B46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ED1F-7C15-48BD-8008-39C2D3996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3B7B-2D6D-4585-A35D-C42A17F96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1CFD-13A7-4FBF-9763-76017D832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7BBA-40D4-4C04-BC40-080EC2E6A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75C9-83F3-42C5-93AF-5827E626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FC0C-A2F7-4A32-9751-2641177B4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6134-F163-401D-9745-01CF7DD04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92733-C042-49C7-8459-E52BD59AB914}" type="slidenum"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1102D-C5E2-4BEF-BF6D-591009B09B2C}" type="slidenum"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assroom</a:t>
            </a: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Walk-Through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Academic Counci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November 13, 2007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Implementation Timelin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11/13 Academic Council-Create Rubric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11/19 Department - Review/Edit Rubric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11/21 Submit Revisions to L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11/27 Faculty Meeting - Review Rubric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11/28-11/30 Classroom Walkthrough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12/5 Academic Council - Review Data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12/11 Department Mtg- Review Data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Small Group Work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066320" y="1599840"/>
            <a:ext cx="7162920" cy="388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(1) What observable evidence of best practices and teaching methodologies to ensure student learning, should we see in any classroom?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(2) How do these connect with 21st Century Learning Skills?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(3) How do they connect to UbD &amp; DI?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Benefit of Frequent </a:t>
            </a: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assroom Observation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Drives a cycle of continuous improvemen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Better awareness of instructional strategies and school climat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More collegial (less hierarchal)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More collaborativ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requent visits lower teacher apprehension over tim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hallenges to Classroom Observation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ime consuming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Great deal of paperwork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cuses on only 1 teacher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Does not provide for school-wide data collection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Does not provide for a school-wide snapsho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assroom Walk-through Model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3-5 minute classroom visit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hart/Rubric to check-off observable evidence in the classroom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reated by teachers, for teachers, for school-wide improvement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chool-wide snapshot, not focused on individual teacher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Data collection is quick to provide immediate feedback for instructional growth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Why use Classroom Walkthroughs. . .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Generates conversations about instruction and curriculum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Is a springboard for professional development based on data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cuses attention on implementation of best practices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Process for Developing Schoolwide Walk-Through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Rubric is created by teacher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Department Chairs participate in walk-through with administrator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onducted over a short (1 week) time period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Data is synthesized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Data is disseminated to all staff in a short time following the walkthrough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Discussions within Academic Council, Departments, Faculty Meetings about Instruction and Student Learning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During the Walk-Through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eam observes a classroom for 5 minutes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During the observation they are noticing evidence that corresponds to their char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ey check-off what they se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After the observation they quickly confer about the observation and align their chart data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Sample Chart Categorie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Instructional Behaviors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hecking for Understanding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ognitive Strategies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Higher Order Thinking Tasks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Questioning Techniques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ollaborative Learning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assroom Environmen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Sample Rubric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57200" y="2590920"/>
          <a:ext cx="8229600" cy="2790720"/>
        </p:xfrm>
        <a:graphic>
          <a:graphicData uri="http://schemas.openxmlformats.org/drawingml/2006/table">
            <a:tbl>
              <a:tblPr/>
              <a:tblGrid>
                <a:gridCol w="1066680"/>
                <a:gridCol w="990720"/>
                <a:gridCol w="838080"/>
                <a:gridCol w="914400"/>
                <a:gridCol w="914400"/>
                <a:gridCol w="838440"/>
                <a:gridCol w="990360"/>
                <a:gridCol w="990720"/>
                <a:gridCol w="685800"/>
              </a:tblGrid>
              <a:tr h="949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Classroom</a:t>
                      </a:r>
                      <a:endParaRPr b="0" lang="en-US" sz="1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Small Group Teaching</a:t>
                      </a:r>
                      <a:endParaRPr b="0" lang="en-US" sz="13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Higher Order Thinking </a:t>
                      </a:r>
                      <a:endParaRPr b="0" lang="en-US" sz="13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Q’s</a:t>
                      </a:r>
                      <a:endParaRPr b="0" lang="en-US" sz="13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Informal Assess-ment</a:t>
                      </a:r>
                      <a:endParaRPr b="0" lang="en-US" sz="13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Formal Assess-ment</a:t>
                      </a:r>
                      <a:endParaRPr b="0" lang="en-US" sz="13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Reading Strategy</a:t>
                      </a:r>
                      <a:endParaRPr b="0" lang="en-US" sz="13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Tech Integration</a:t>
                      </a:r>
                      <a:endParaRPr b="0" lang="en-US" sz="13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Quick , Smooth</a:t>
                      </a:r>
                      <a:endParaRPr b="0" lang="en-US" sz="13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Transition</a:t>
                      </a:r>
                      <a:endParaRPr b="0" lang="en-US" sz="13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Clear Rubric</a:t>
                      </a:r>
                      <a:endParaRPr b="0" lang="en-US" sz="13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0000"/>
                      </a:solidFill>
                    </a:lnL>
                    <a:lnR w="1368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0000"/>
                      </a:solidFill>
                    </a:lnL>
                    <a:lnR w="1368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0000"/>
                      </a:solidFill>
                    </a:lnL>
                    <a:lnR w="1368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0000"/>
                      </a:solidFill>
                    </a:lnL>
                    <a:lnR w="1368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19:24:10Z</dcterms:created>
  <dc:creator>Office 2004 Test Drive User</dc:creator>
  <dc:description/>
  <dc:language>en-US</dc:language>
  <cp:lastModifiedBy>Office 2004 Test Drive User</cp:lastModifiedBy>
  <cp:lastPrinted>2007-11-05T22:15:44Z</cp:lastPrinted>
  <dcterms:modified xsi:type="dcterms:W3CDTF">2007-11-13T22:00:17Z</dcterms:modified>
  <cp:revision>6</cp:revision>
  <dc:subject/>
  <dc:title>Classroom Walk-Through</dc:title>
</cp:coreProperties>
</file>